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6B8C-4FB3-4D97-A7CD-1074B75A8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901D-A20C-4299-AFD4-85245E596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44DC-2963-4736-A267-3AE682FC4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4C3B-634C-4830-8E2A-380A697A6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F8CE-ACC1-4FAA-AC03-C5BF1C06E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FB5D-59CD-4B5F-8571-99BD1BEB9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40A5-AE9C-451A-B4F9-95B9E98DF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E1FF-BF4D-449C-B104-AB89AEEED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15C3-0B93-426D-B4A1-19E2D686F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748B-92AA-40C0-B262-681A0259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35FA-C316-4121-87BE-D4CE1FBA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0A64-DD03-460B-B63E-8A35D7A1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3e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C530-D3A1-49E1-9DD9-564D29C2D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3e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81080" y="114264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The Most Hated Lam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95280" y="2666880"/>
            <a:ext cx="6705720" cy="32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3e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36480" y="685800"/>
            <a:ext cx="5712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As the midnight hour-strike rings in the night, </a:t>
            </a:r>
            <a:br>
              <a:rPr sz="1800"/>
            </a:b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Clouds roll through the darkened sky.</a:t>
            </a:r>
            <a:br>
              <a:rPr sz="1800"/>
            </a:b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No ordinary clouds are these ones though; </a:t>
            </a:r>
            <a:br>
              <a:rPr sz="1800"/>
            </a:b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they rumble and growl each with their own voices, </a:t>
            </a:r>
            <a:br>
              <a:rPr sz="1800"/>
            </a:b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with every cry dark, pained, and ang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2666880"/>
            <a:ext cx="5029200" cy="377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3e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895840" y="914400"/>
            <a:ext cx="579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 walk the lonely streets of a new Rome, </a:t>
            </a:r>
            <a:br>
              <a:rPr sz="1800"/>
            </a:b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Marveling at how the sky matches my inner turmoil.</a:t>
            </a:r>
            <a:br>
              <a:rPr sz="1800"/>
            </a:b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 try to understand what the weight</a:t>
            </a:r>
            <a:br>
              <a:rPr sz="1800"/>
            </a:b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of that cross must have been with our</a:t>
            </a:r>
            <a:br>
              <a:rPr sz="1800"/>
            </a:b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Sins piled atop its rough surf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284940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3e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09480" y="838080"/>
            <a:ext cx="6705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 stand in the midst of this long night, </a:t>
            </a:r>
            <a:br>
              <a:rPr sz="1800"/>
            </a:b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staring at the sky as it rains down upon me.</a:t>
            </a:r>
            <a:br>
              <a:rPr sz="1800"/>
            </a:b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The only rain that doesn't sting but</a:t>
            </a:r>
            <a:br>
              <a:rPr sz="1800"/>
            </a:b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Washes the tears from my weary face.</a:t>
            </a:r>
            <a:br>
              <a:rPr sz="1800"/>
            </a:b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 hear a voice under the thunder, "I know what life is like."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crying" descr=""/>
          <p:cNvPicPr/>
          <p:nvPr/>
        </p:nvPicPr>
        <p:blipFill>
          <a:blip r:embed="rId1"/>
          <a:stretch/>
        </p:blipFill>
        <p:spPr>
          <a:xfrm>
            <a:off x="3962520" y="2743200"/>
            <a:ext cx="3217680" cy="33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3e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114800"/>
            <a:ext cx="6165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My smile, which at first held no joy, is now</a:t>
            </a:r>
            <a:br>
              <a:rPr sz="1800"/>
            </a:b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the light of Lord's life. I will bear my pain</a:t>
            </a:r>
            <a:br>
              <a:rPr sz="1800"/>
            </a:b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to further his glory and in return get his</a:t>
            </a:r>
            <a:br>
              <a:rPr sz="1800"/>
            </a:b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Hand to lift my broken form from this</a:t>
            </a:r>
            <a:br>
              <a:rPr sz="1800"/>
            </a:b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Earth to stand in his arms and cry my first tears of jo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962520" y="762120"/>
            <a:ext cx="3886200" cy="26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3e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99840" y="4114800"/>
            <a:ext cx="647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My legacy is to bear this life for my savior.</a:t>
            </a:r>
            <a:br>
              <a:rPr sz="1800"/>
            </a:b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Every slap and cruel word, every single thorn and splinter</a:t>
            </a:r>
            <a:br>
              <a:rPr sz="1800"/>
            </a:b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from the crown and the cross society hands me.</a:t>
            </a:r>
            <a:br>
              <a:rPr sz="1800"/>
            </a:b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Though I am treated as a criminal, spat on and beaten, </a:t>
            </a:r>
            <a:br>
              <a:rPr sz="1800"/>
            </a:b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my soul flies free on the wings of eagles he gives 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man_being_beaten" descr=""/>
          <p:cNvPicPr/>
          <p:nvPr/>
        </p:nvPicPr>
        <p:blipFill>
          <a:blip r:embed="rId1"/>
          <a:stretch/>
        </p:blipFill>
        <p:spPr>
          <a:xfrm>
            <a:off x="4343400" y="762120"/>
            <a:ext cx="2895480" cy="26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3e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672920" y="3733920"/>
            <a:ext cx="6896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As I look down the street I know. My road will be tough.</a:t>
            </a:r>
            <a:br>
              <a:rPr sz="1800"/>
            </a:b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 hold no fear for the future though. I will make it through.</a:t>
            </a:r>
            <a:br>
              <a:rPr sz="1800"/>
            </a:b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To the arms of my savior, my comforter, my teacher, </a:t>
            </a:r>
            <a:br>
              <a:rPr sz="1800"/>
            </a:b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my life, my light, and my truth. Who died for me and bore</a:t>
            </a:r>
            <a:br>
              <a:rPr sz="1800"/>
            </a:b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Pain that I could never imagine. My life would be easy to hi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7463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2933640" cy="293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3e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my-heaven" descr=""/>
          <p:cNvPicPr/>
          <p:nvPr/>
        </p:nvPicPr>
        <p:blipFill>
          <a:blip r:embed="rId1"/>
          <a:stretch/>
        </p:blipFill>
        <p:spPr>
          <a:xfrm>
            <a:off x="2743200" y="2133720"/>
            <a:ext cx="3259080" cy="4343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62120" y="457200"/>
            <a:ext cx="8076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Even my darkest and hardest hours he brightens for me and</a:t>
            </a:r>
            <a:br>
              <a:rPr sz="1800"/>
            </a:b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No matter how the world hates me he accepts me as I am.</a:t>
            </a:r>
            <a:br>
              <a:rPr sz="1800"/>
            </a:b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He has named me as his own. From outcast to beloved child, </a:t>
            </a:r>
            <a:br>
              <a:rPr sz="1800"/>
            </a:b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the lone wolf to the purest lamb, and he has claimed me as his daught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The jewel of his crown in heaven where he waits for 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3e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38080" y="50281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The most hated lamb on Earth. Now the soul of heaven's ligh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sunbeams" descr=""/>
          <p:cNvPicPr/>
          <p:nvPr/>
        </p:nvPicPr>
        <p:blipFill>
          <a:blip r:embed="rId1"/>
          <a:stretch/>
        </p:blipFill>
        <p:spPr>
          <a:xfrm>
            <a:off x="1905120" y="685800"/>
            <a:ext cx="5143320" cy="3809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22:58:08Z</dcterms:created>
  <dc:creator> </dc:creator>
  <dc:description/>
  <dc:language>en-US</dc:language>
  <cp:lastModifiedBy> </cp:lastModifiedBy>
  <dcterms:modified xsi:type="dcterms:W3CDTF">2008-02-27T22:10:26Z</dcterms:modified>
  <cp:revision>6</cp:revision>
  <dc:subject/>
  <dc:title>Slide 1</dc:title>
</cp:coreProperties>
</file>